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168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91429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7960" y="4089960"/>
            <a:ext cx="91429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300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7960" y="40899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5193000" y="40899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99280" y="17823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690600" y="17823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7960" y="40899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599280" y="40899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690600" y="40899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507960" y="1782360"/>
            <a:ext cx="914292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914292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6148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5193000" y="1782360"/>
            <a:ext cx="446148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3000" y="1782360"/>
            <a:ext cx="446148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507960" y="40899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6148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9300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193000" y="40899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9300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7960" y="4089960"/>
            <a:ext cx="91429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5" descr="C:\Users\rakesh.jawale\Desktop\HSGEO15_TC_C07_L1_ls04\Image.png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-23760" y="-14400"/>
            <a:ext cx="10182240" cy="7639200"/>
          </a:xfrm>
          <a:prstGeom prst="rect">
            <a:avLst/>
          </a:prstGeom>
          <a:ln w="0">
            <a:noFill/>
          </a:ln>
        </p:spPr>
      </p:pic>
      <p:sp>
        <p:nvSpPr>
          <p:cNvPr id="37" name="Text Box 3">
            <a:hlinkClick r:id="" action="ppaction://hlinkshowjump?jump=nextslide"/>
          </p:cNvPr>
          <p:cNvSpPr/>
          <p:nvPr/>
        </p:nvSpPr>
        <p:spPr>
          <a:xfrm>
            <a:off x="122400" y="1440"/>
            <a:ext cx="833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ocial Problems and Progressive Solutions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8" name="Text Box 14">
            <a:hlinkClick r:id="" action="ppaction://hlinkshowjump?jump=nextslide"/>
          </p:cNvPr>
          <p:cNvSpPr/>
          <p:nvPr/>
        </p:nvSpPr>
        <p:spPr>
          <a:xfrm>
            <a:off x="455760" y="1941480"/>
            <a:ext cx="9378720" cy="50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Social Problems and Progressive Solutions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yriad Pro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In 1890 more than 90 percent of the nation’s 12 million families earned less than $1,200 per year.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Progressives pushed for child labor laws, minimum wages, and maximum working hours.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Many progressives worked to prohibit the sale and use of alcohol.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Progressives proposed a commission plan and a council-manager system for city government.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The initiative, the referendum, and the recall were the focuses of the progressive political agenda.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23:17:57Z</dcterms:created>
  <dc:creator>Jim Larkin</dc:creator>
  <dc:description/>
  <dc:language>en-US</dc:language>
  <cp:lastModifiedBy>Grace</cp:lastModifiedBy>
  <dcterms:modified xsi:type="dcterms:W3CDTF">2015-11-07T15:07:04Z</dcterms:modified>
  <cp:revision>1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sMyDocuments">
    <vt:lpwstr>1</vt:lpwstr>
  </property>
  <property fmtid="{D5CDD505-2E9C-101B-9397-08002B2CF9AE}" pid="3" name="KSOProductBuildVer">
    <vt:lpwstr>1033-9.1.0.4674</vt:lpwstr>
  </property>
</Properties>
</file>